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D8C5-D6DC-41A9-99D0-9740BA84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E4B3-3C08-432D-9A90-35E3BBA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B434-A5F6-489C-85B0-027B8431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C47B-1ADC-46AA-BB2F-E650D7A9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696E-1588-4AA9-9B50-7796133B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91F2-C12F-4C28-B644-A8DAC2A5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7515-EB64-4DB1-B17C-C7540C49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7A1B-8EF4-4C6B-85C4-56337F5F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F063-8A34-40BE-AD95-1505CD28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38D5-F4F9-4148-8746-A33288D3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B8A5-DE77-4F9C-8ED5-A8581300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F79D-6233-4254-B4BE-2CEE0931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F2C1-870C-4F37-AA56-3A644BD8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754C-D1B5-4BDD-A57A-33CC66B9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925D-DEDA-4D0A-99BB-6F170E4E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5579-77E3-4B77-B476-BFD97D99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F95F-2BE3-4AB5-A09D-E167A71A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F720-DB58-4ABF-83AD-DDF2E155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F615-369F-4ABA-8559-C79A8264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CE51-0359-4BE5-8BE2-CDEE63F3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F358-EA85-4A65-91C5-F7594C09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9C6C-3FEF-4D35-892C-ECD85EC9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42F5-9D66-4943-8700-617C5C4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D620-FCFD-48F7-93BE-61B99288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64A4-AC3E-469D-A0B1-115BCEAA88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301C-94DB-48D3-B9C9-FAE0136EFD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 The Days of the Judges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#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3:7 – 5: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61-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276720" y="228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286000"/>
            <a:ext cx="1981080" cy="1752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opota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19320" y="1981080"/>
            <a:ext cx="3808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320" y="3809880"/>
            <a:ext cx="6858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837720" y="403812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80880" y="2514600"/>
            <a:ext cx="30492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286000"/>
            <a:ext cx="22860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981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2514600"/>
            <a:ext cx="1676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ab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monit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alek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ist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3657600"/>
            <a:ext cx="1143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hu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257440" y="3962520"/>
            <a:ext cx="6094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590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2209680"/>
            <a:ext cx="1752840" cy="1676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aan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borah &amp; Bar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952880"/>
            <a:ext cx="2819520" cy="916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 was “after” Ehud in noteworthiness, but during his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0100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ming up…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 vs. Midia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ick Over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ly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niel – and Cushan-rishathaim of Mesopota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hud – and the Moabites, Ammonites, &amp; Amalek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mgar – and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orah – and the Canaan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g of Debo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95680" y="0"/>
            <a:ext cx="464832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3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s left to try Israel, v. 1-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the people provoked the Lord, v. 5-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 serves the king of Mesopotamia (Cushan-rishathaim) for eight years, v.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niel raised as their delive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eats the king of Mesopota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vers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nd enjoys peace for forty years, v. 9-1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495680" y="0"/>
            <a:ext cx="464832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 sins a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g of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ab smote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laved 18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ed to the Lord, v. 12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hud kills Eglon, king of Mo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ys ten thousand Moab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nd rests 80 years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15-3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mgar delivers Israel from the Philistines, v. 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4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ites again rebel against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 into the hands of Jabin, king of Canaan, v. 1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981080" y="1066680"/>
            <a:ext cx="2362320" cy="320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371240" y="2362320"/>
            <a:ext cx="3048120" cy="350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819160" y="3733560"/>
            <a:ext cx="16002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95680" y="152280"/>
            <a:ext cx="4648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ried unto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raised up Deborah and Barak to deliver them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3-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ber the Kenite, v. 1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ak attacked Jabin’s army at the Kisho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army totally destroye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12-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era, captain of Jabin's army esca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ed the tent of Jael, the wife of He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lled by a woman while hiding, v. 17-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990360" y="2743200"/>
            <a:ext cx="32763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8915400" cy="68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ictory Song of Deborah And Barak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5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It begins with praise to God v. 2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. The substance of this song transmits the memory of this great achie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. It Ends With A Prayer. V.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03:23:46Z</dcterms:created>
  <dc:creator>Terry W. Benton</dc:creator>
  <dc:description/>
  <dc:language>en-US</dc:language>
  <cp:lastModifiedBy>Terry Benton</cp:lastModifiedBy>
  <dcterms:modified xsi:type="dcterms:W3CDTF">2005-02-06T13:12:04Z</dcterms:modified>
  <cp:revision>12</cp:revision>
  <dc:subject/>
  <dc:title>In The Days of the Jud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